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pct" ContentType="image/x-pict"/>
  <Override PartName="/ppt/media/image9.pct" ContentType="image/x-pict"/>
  <Override PartName="/ppt/media/image8.pct" ContentType="image/x-pict"/>
  <Override PartName="/ppt/media/image12.pct" ContentType="image/x-pict"/>
  <Override PartName="/ppt/media/image7.pct" ContentType="image/x-pict"/>
  <Override PartName="/ppt/media/image11.pct" ContentType="image/x-pict"/>
  <Override PartName="/ppt/media/image17.pct" ContentType="image/x-pict"/>
  <Override PartName="/ppt/media/image15.pct" ContentType="image/x-pict"/>
  <Override PartName="/ppt/media/image14.pct" ContentType="image/x-pict"/>
  <Override PartName="/ppt/media/image13.pct" ContentType="image/x-pict"/>
  <Override PartName="/ppt/media/image18.pct" ContentType="image/x-pict"/>
  <Override PartName="/ppt/media/image1.jpeg" ContentType="image/jpeg"/>
  <Override PartName="/ppt/media/image2.pct" ContentType="image/x-pict"/>
  <Override PartName="/ppt/media/image3.pct" ContentType="image/x-pict"/>
  <Override PartName="/ppt/media/whoosh.wav" ContentType="audio/x-wav"/>
  <Override PartName="/ppt/media/image5.png" ContentType="image/png"/>
  <Override PartName="/ppt/media/image16.pct" ContentType="image/x-pict"/>
  <Override PartName="/ppt/media/image4.pct" ContentType="image/x-pict"/>
  <Override PartName="/ppt/media/image6.pct" ContentType="image/x-pi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AF922-7023-477D-A0CF-A1ABB3A5F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CDEF7-0475-4FFE-8F94-416D9DE0B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FFB3F-2924-44C7-B3FD-CB022BB00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63C4F-00CA-47CE-8BD5-466AED342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F23EF-ED7B-4760-BDB5-6876475B9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C3B7E-655E-4259-9C17-9D8579547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97019-CB2E-4D69-B678-49EBD80E8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8F0C3-F4A5-4006-A7EC-1B3EF46DB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61EC4-327D-4504-BC50-7350B1715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DD338-E721-4779-93DD-D15F2E4F5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167C2-9177-45FF-BDC1-4E1277258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276A0-A0E9-4801-8590-CA8C6D68C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6457F-20A0-4520-84A9-F946DDEA53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ct"/><Relationship Id="rId3" Type="http://schemas.openxmlformats.org/officeDocument/2006/relationships/image" Target="../media/image15.pct"/><Relationship Id="rId4" Type="http://schemas.openxmlformats.org/officeDocument/2006/relationships/image" Target="../media/image16.pct"/><Relationship Id="rId5" Type="http://schemas.openxmlformats.org/officeDocument/2006/relationships/image" Target="../media/image17.pct"/><Relationship Id="rId6" Type="http://schemas.openxmlformats.org/officeDocument/2006/relationships/image" Target="../media/image18.pct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audio" Target="../media/whoosh.wav"/><Relationship Id="rId10" Type="http://schemas.openxmlformats.org/officeDocument/2006/relationships/audio" Target="../media/whoosh.wav"/><Relationship Id="rId1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audio" Target="../media/whoosh.wav"/><Relationship Id="rId10" Type="http://schemas.openxmlformats.org/officeDocument/2006/relationships/audio" Target="../media/whoosh.wav"/><Relationship Id="rId1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ct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ct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file:///tmp/home/.config/libreoffice/4/user/gallery/whoosh.wav" TargetMode="External"/><Relationship Id="rId3" Type="http://schemas.microsoft.com/office/2007/relationships/media" Target="file:///tmp/home/.config/libreoffice/4/user/gallery/whoosh.wav" TargetMode="External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ct"/><Relationship Id="rId3" Type="http://schemas.openxmlformats.org/officeDocument/2006/relationships/image" Target="../media/image7.pct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ct"/><Relationship Id="rId3" Type="http://schemas.openxmlformats.org/officeDocument/2006/relationships/image" Target="../media/image9.pct"/><Relationship Id="rId4" Type="http://schemas.openxmlformats.org/officeDocument/2006/relationships/image" Target="../media/image10.pct"/><Relationship Id="rId5" Type="http://schemas.openxmlformats.org/officeDocument/2006/relationships/image" Target="../media/image11.pct"/><Relationship Id="rId6" Type="http://schemas.openxmlformats.org/officeDocument/2006/relationships/image" Target="../media/image12.pct"/><Relationship Id="rId7" Type="http://schemas.openxmlformats.org/officeDocument/2006/relationships/image" Target="../media/image13.pct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638320" y="914400"/>
            <a:ext cx="30481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000000"/>
                </a:solidFill>
                <a:latin typeface="Times New Roman"/>
              </a:rPr>
              <a:t>Diversity of Life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943240" y="4495680"/>
            <a:ext cx="2514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troduction to Taxonom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304920"/>
            <a:ext cx="520704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mmon Name Probl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fish”, “Crayfish”, “Jellyfish” 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 FIS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a Robin” – is a fish, NOT A BI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anish moss” – is NOT MOSS, it is a flowering pla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733920" y="2590920"/>
            <a:ext cx="990360" cy="99036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5257800" y="2590920"/>
            <a:ext cx="1295280" cy="87156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4"/>
          <a:stretch/>
        </p:blipFill>
        <p:spPr>
          <a:xfrm>
            <a:off x="7086600" y="1981080"/>
            <a:ext cx="914400" cy="9064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5"/>
          <a:stretch/>
        </p:blipFill>
        <p:spPr>
          <a:xfrm>
            <a:off x="7391520" y="3581280"/>
            <a:ext cx="1752480" cy="141948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6"/>
          <a:stretch/>
        </p:blipFill>
        <p:spPr>
          <a:xfrm>
            <a:off x="3733920" y="5562720"/>
            <a:ext cx="320040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5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500"/>
                            </p:stCondLst>
                            <p:childTnLst>
                              <p:par>
                                <p:cTn id="2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00"/>
                            </p:stCondLst>
                            <p:childTnLst>
                              <p:par>
                                <p:cTn id="2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5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Groupings in a Classification Syst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64771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ologists group organisms as follows: (large groups down to individual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ingd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hyl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as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d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mil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u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267080" y="2666880"/>
            <a:ext cx="2667240" cy="366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ontin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ountr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tat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ount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it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treet #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House #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010280" y="2514600"/>
            <a:ext cx="2133720" cy="32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66"/>
                </a:solidFill>
                <a:latin typeface="Times New Roman"/>
              </a:rPr>
              <a:t>Relationships of different “Levels” of classification can be compared to geographic destin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nemonic Devi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g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llip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ied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t – “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odness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ke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g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llip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m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r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m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rmany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ur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l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ked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unks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zzy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en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uf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ke up your own!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emember,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maller the group, the more alike are its memb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3818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xamples of Classifying Huma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ingdom – Animal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hyla – Chordata/Vertebr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ass – Mammalia (mammary gland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der – Primates (stand, walk erec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mily – Hominidae (early huma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us –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om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true humans, larger brain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ecies –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apien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“wise”, sophisticated, large brain) = only surviving human spec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rieties: ex. different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rac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hum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t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breed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do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The End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axonom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ience of classifying living th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istotle – devised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lassification      system over 2,000 years ag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1143000" y="3962520"/>
          <a:ext cx="6477120" cy="2130480"/>
        </p:xfrm>
        <a:graphic>
          <a:graphicData uri="http://schemas.openxmlformats.org/drawingml/2006/table">
            <a:tbl>
              <a:tblPr/>
              <a:tblGrid>
                <a:gridCol w="3238560"/>
                <a:gridCol w="323856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</a:t>
                      </a:r>
                      <a:r>
                        <a:rPr b="1" lang="en-US" sz="3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Animal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</a:t>
                      </a:r>
                      <a:r>
                        <a:rPr b="1" lang="en-US" sz="3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Plant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ir dwelle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erb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nd dwelle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hrub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ater dwelle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e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238880" y="1828800"/>
            <a:ext cx="145908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urrent System of Taxonom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ed by Carolus Linnaeus               (18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entury Swedish biologis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ouped organisms according to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tructural similariti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those that looked most closely alike, were most closely rel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ve organisms Latin names --- WH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705720" y="1371600"/>
            <a:ext cx="146196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easons for Lat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a “dead language, no longer used so it won’t change over 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understood by scientists from all over the world (universal language of scienc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y Latin words are suitable for describing the traits of organism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685800" y="990720"/>
            <a:ext cx="7620120" cy="51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65665" fill="hold"/>
                                        <p:tgtEl>
                                          <p:spTgt spid="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53"/>
                </p:tgtEl>
              </p:cMediaNode>
            </p:audio>
            <p:seq>
              <p:cTn id="73" restart="whenNotActive" nodeType="interactiveSeq" fill="hold">
                <p:stCondLst>
                  <p:cond evt="onClick">
                    <p:tgtEl>
                      <p:spTgt spid="53"/>
                    </p:tgtEl>
                  </p:cond>
                </p:stCondLst>
                <p:childTnLst>
                  <p:par>
                    <p:cTn id="74" fill="hold">
                      <p:stCondLst>
                        <p:cond evt="onClick">
                          <p:tgtEl>
                            <p:spTgt spid="53"/>
                          </p:tgtEl>
                        </p:cond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77" dur="1" fill="hold"/>
                                        <p:tgtEl>
                                          <p:spTgt spid="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Binomial Nomencla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word naming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me consists of genus and spec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per format includ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name = Genus      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name = spe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us name always begins with a capital let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es name always begins with a small let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Underlin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taliciz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oth nam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Binomial Nomenclature and Lat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2590920"/>
            <a:ext cx="84582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cer saccharu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sugar mapl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er = maple       saccharum = sweet or sug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cer rubru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red mapl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er = maple        rubrum = r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248520" y="1447920"/>
            <a:ext cx="1600200" cy="18158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6553080" y="4724280"/>
            <a:ext cx="21337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xamples of Scientific Names-(Binomial Nomenclatur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228600" y="2514600"/>
          <a:ext cx="4038480" cy="2666880"/>
        </p:xfrm>
        <a:graphic>
          <a:graphicData uri="http://schemas.openxmlformats.org/drawingml/2006/table">
            <a:tbl>
              <a:tblPr/>
              <a:tblGrid>
                <a:gridCol w="4038480"/>
              </a:tblGrid>
              <a:tr h="66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Felis tigris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(tiger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Felis leo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(lion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Felis domestica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(housecat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2" name=""/>
          <p:cNvGraphicFramePr/>
          <p:nvPr/>
        </p:nvGraphicFramePr>
        <p:xfrm>
          <a:off x="4572000" y="2590920"/>
          <a:ext cx="4267080" cy="2496960"/>
        </p:xfrm>
        <a:graphic>
          <a:graphicData uri="http://schemas.openxmlformats.org/drawingml/2006/table">
            <a:tbl>
              <a:tblPr/>
              <a:tblGrid>
                <a:gridCol w="42670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g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Canis lupus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(wolf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Canis latrans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(coyote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Canis domestica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(domestic dog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152280" y="5334120"/>
            <a:ext cx="1447920" cy="12571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600200" y="5334120"/>
            <a:ext cx="1523880" cy="12189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3124080" y="5334120"/>
            <a:ext cx="1447920" cy="12189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5"/>
          <a:stretch/>
        </p:blipFill>
        <p:spPr>
          <a:xfrm>
            <a:off x="4572000" y="5334120"/>
            <a:ext cx="1523880" cy="121896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6"/>
          <a:stretch/>
        </p:blipFill>
        <p:spPr>
          <a:xfrm>
            <a:off x="6095880" y="5334120"/>
            <a:ext cx="1638360" cy="11300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7"/>
          <a:stretch/>
        </p:blipFill>
        <p:spPr>
          <a:xfrm>
            <a:off x="7696080" y="5257800"/>
            <a:ext cx="120348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500"/>
                            </p:stCondLst>
                            <p:childTnLst>
                              <p:par>
                                <p:cTn id="1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500"/>
                            </p:stCondLst>
                            <p:childTnLst>
                              <p:par>
                                <p:cTn id="1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500"/>
                            </p:stCondLst>
                            <p:childTnLst>
                              <p:par>
                                <p:cTn id="1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NO Common Names are Us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slea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lls us nothing about the relationships between organis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be different from place to place for the same organis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6T00:37:19Z</dcterms:created>
  <dc:creator> </dc:creator>
  <dc:description/>
  <dc:language>en-US</dc:language>
  <cp:lastModifiedBy>Clayton Johns</cp:lastModifiedBy>
  <dcterms:modified xsi:type="dcterms:W3CDTF">2008-09-19T12:43:50Z</dcterms:modified>
  <cp:revision>7</cp:revision>
  <dc:subject/>
  <dc:title>Diversity of Life</dc:title>
</cp:coreProperties>
</file>